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2715-5458-47D0-A948-AD0614ACF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EB5B-86CF-429E-8C20-9B2F5591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21A4-366E-4C1A-90BD-55432D896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C91B-EB9F-4033-B8E9-1D402917E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F358-2A88-442B-A308-76597E0E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C5A3-9B8D-480C-B1E7-D8C9EBCB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72D6-3283-4EED-A009-D4F8BB2C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7EFB-8205-4B6B-BCA7-FFFEE01A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8A70-4810-44B9-95A8-370CA610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4046-E0DC-4F38-ACB2-57CF3785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593F-25DE-4EC5-A5A2-EDE75A9F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11AB-0C76-4BCC-8177-83ACC7B9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8937-C8D2-4A00-8D0C-80F56138A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" Target="slide11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9.xm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cc"/>
                </a:solidFill>
                <a:latin typeface="Times New Roman"/>
              </a:rPr>
              <a:t>IMMAGINE E FILOSOF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12720" y="1981080"/>
            <a:ext cx="830268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ristotele: la meraviglia è la madre della filosof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meraviglia sta alla radice anche dell’immagine in movimento- luce che si muove = cin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505320"/>
            <a:ext cx="8153280" cy="1130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Perché leggere l’immag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Non esiste un analfabetismo nel coglimento dell’immagine nella sua 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denotazione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(E. Morin, Il cinema o l’uomo immagina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5029200"/>
            <a:ext cx="85345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 l’immagine è anche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connotazion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ovvero non solo  fattualità ma rimando più profo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A3DE-1617-45D4-B52E-CB9A4ECF1E1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cc"/>
                </a:solidFill>
                <a:latin typeface="Times New Roman"/>
              </a:rPr>
              <a:t>ECCEZIONI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2251080"/>
            <a:ext cx="88390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ono legate alla volontà di decentramento o sviamento dello spettatore, o definiscono uno spazio ideolog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200" y="3809880"/>
            <a:ext cx="7445520" cy="1937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X: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Mamma Rom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Pasolini - carcere è mor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Alien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il ‘dentro’ è anche tema della maternità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Western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villaggio chiuso è protetto dalle insidie esterne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previousslide"/>
          </p:cNvPr>
          <p:cNvSpPr/>
          <p:nvPr/>
        </p:nvSpPr>
        <p:spPr>
          <a:xfrm>
            <a:off x="6705720" y="53341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BEA8-9E2F-4152-B896-CED22E4243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IL TEMPO (Dieges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Diegesi stretta: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l plot narrativo si sviluppa quasi in tempo re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Times New Roman"/>
              </a:rPr>
              <a:t>Diegesi lung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necessita di spazio u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usa pianosequenza (camera senza stacch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(EX. : </a:t>
            </a:r>
            <a:r>
              <a:rPr b="0" lang="it-IT" sz="1400" spc="-1" strike="noStrike">
                <a:solidFill>
                  <a:srgbClr val="ff0000"/>
                </a:solidFill>
                <a:latin typeface="Times New Roman"/>
              </a:rPr>
              <a:t>Mezzogiorno di fuoco, Così è la vita, Ballando ballando, The roop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E464-0DC3-45CE-9D1A-885B74B7E1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INDIZI DI MAR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Times New Roman"/>
              </a:rPr>
              <a:t>Titoli di giornale, titolo del film, date,indicazioni extradiegetiche (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sovrimpressione</a:t>
            </a:r>
            <a:r>
              <a:rPr b="0" lang="it-IT" sz="3200" spc="-1" strike="noStrike">
                <a:solidFill>
                  <a:srgbClr val="3333cc"/>
                </a:solidFill>
                <a:latin typeface="Times New Roman"/>
              </a:rPr>
              <a:t>), calendario che scorre, alba e tramonto (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western</a:t>
            </a:r>
            <a:r>
              <a:rPr b="0" lang="it-IT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Times New Roman"/>
              </a:rPr>
              <a:t>ciclicità delle stagioni (Pollack,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Corvo rosso</a:t>
            </a:r>
            <a:r>
              <a:rPr b="0" lang="it-IT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6629400" y="5334120"/>
            <a:ext cx="1371600" cy="53316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5545" h="21600">
                <a:moveTo>
                  <a:pt x="0" y="0"/>
                </a:moveTo>
                <a:lnTo>
                  <a:pt x="55545" y="0"/>
                </a:lnTo>
                <a:lnTo>
                  <a:pt x="55545" y="21600"/>
                </a:lnTo>
                <a:lnTo>
                  <a:pt x="0" y="21600"/>
                </a:lnTo>
                <a:close/>
              </a:path>
              <a:path fill="lightenLess" w="55545" h="21600">
                <a:moveTo>
                  <a:pt x="0" y="0"/>
                </a:moveTo>
                <a:lnTo>
                  <a:pt x="55545" y="0"/>
                </a:lnTo>
                <a:lnTo>
                  <a:pt x="54145" y="1400"/>
                </a:lnTo>
                <a:lnTo>
                  <a:pt x="1400" y="1400"/>
                </a:lnTo>
                <a:close/>
              </a:path>
              <a:path fill="darken" w="55545" h="21600">
                <a:moveTo>
                  <a:pt x="55545" y="0"/>
                </a:moveTo>
                <a:lnTo>
                  <a:pt x="55545" y="21600"/>
                </a:lnTo>
                <a:lnTo>
                  <a:pt x="54145" y="20200"/>
                </a:lnTo>
                <a:lnTo>
                  <a:pt x="54145" y="1400"/>
                </a:lnTo>
                <a:close/>
              </a:path>
              <a:path fill="darkenLess" w="55545" h="21600">
                <a:moveTo>
                  <a:pt x="5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45" y="20200"/>
                </a:lnTo>
                <a:close/>
              </a:path>
              <a:path fill="lighten" w="5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6C51-AC6C-452D-97DC-E0EC2208AB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IL MONTAGG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Il montaggio invisib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l  montaggio delle attra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2666880"/>
            <a:ext cx="457200" cy="824040"/>
          </a:xfrm>
          <a:prstGeom prst="downArrow">
            <a:avLst>
              <a:gd name="adj1" fmla="val 50000"/>
              <a:gd name="adj2" fmla="val 450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3581280"/>
            <a:ext cx="396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baseline="30000">
                <a:solidFill>
                  <a:srgbClr val="000000"/>
                </a:solidFill>
                <a:latin typeface="Times New Roman"/>
              </a:rPr>
              <a:t>Enfatizza il narra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baseline="30000">
                <a:solidFill>
                  <a:srgbClr val="000000"/>
                </a:solidFill>
                <a:latin typeface="Times New Roman"/>
              </a:rPr>
              <a:t>Si cela, crea finzione di realt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baseline="30000">
                <a:solidFill>
                  <a:srgbClr val="000000"/>
                </a:solidFill>
                <a:latin typeface="Times New Roman"/>
              </a:rPr>
              <a:t>Verosimiglianza ricerc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baseline="30000">
                <a:solidFill>
                  <a:srgbClr val="000000"/>
                </a:solidFill>
                <a:latin typeface="Times New Roman"/>
              </a:rPr>
              <a:t>Spettatore ha un ruolo orizzontale nella lettura del fi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81680" y="266688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352680"/>
            <a:ext cx="342900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mmagini  di scon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lternanze per contra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uccessione di pia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inema intellettuale che stimola lo spetta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CDDE-40CF-43A9-84B8-7A05BCD1C1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Struttura narrati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Narratività forte (cal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Narratività debole (fred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623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2448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2971800"/>
            <a:ext cx="3429000" cy="825480"/>
          </a:xfrm>
          <a:prstGeom prst="rect">
            <a:avLst/>
          </a:prstGeom>
          <a:gradFill rotWithShape="0">
            <a:gsLst>
              <a:gs pos="0">
                <a:srgbClr val="467517"/>
              </a:gs>
              <a:gs pos="50000">
                <a:srgbClr val="99ff33"/>
              </a:gs>
              <a:gs pos="100000">
                <a:srgbClr val="4675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racconto supera il linguagg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74880" y="3886200"/>
            <a:ext cx="3368520" cy="192276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ineare, contin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ircol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incas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ternata/parall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d affre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76920" y="3013200"/>
            <a:ext cx="3429000" cy="82548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6600"/>
                </a:solidFill>
                <a:latin typeface="Times New Roman"/>
              </a:rPr>
              <a:t>Il linguaggio prevale sul racco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76920" y="3962520"/>
            <a:ext cx="3429000" cy="1937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993300"/>
                </a:solidFill>
                <a:latin typeface="Times New Roman"/>
              </a:rPr>
              <a:t>frammen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993300"/>
                </a:solidFill>
                <a:latin typeface="Times New Roman"/>
              </a:rPr>
              <a:t>iterativa( cartoon, com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993300"/>
                </a:solidFill>
                <a:latin typeface="Times New Roman"/>
              </a:rPr>
              <a:t>metalingui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1" action="ppaction://hlinksldjump"/>
          </p:cNvPr>
          <p:cNvSpPr/>
          <p:nvPr/>
        </p:nvSpPr>
        <p:spPr>
          <a:xfrm>
            <a:off x="7391520" y="9144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A83E-7D1D-4F63-9993-AEA9122C1F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TEMI DEL RACCO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inque tipi ( o uno solo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03480" y="2479680"/>
            <a:ext cx="6568920" cy="3385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IL VIAGGIO (il film pereccellenza - lineare o intercal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L’EDUCAZIONE SENTIMENTALE (la grande commedia -  lineare o bina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L’ENIGMA/L’INDAGINE (detective story - struttura ad intreccio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LA LOTTA MORALE (avventura, western, horror, fiction -  intercalata o linea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LA MORTE (struttura ad affres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5288-C2CB-4BC4-84E6-81F3936F20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IL MONTAGG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l  pianosequen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Il pianosequenza espress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24382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98560" y="3124080"/>
            <a:ext cx="35211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’ un montaggio ass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- il fuoco è totale (realism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- rappresenta molti livelli di visione e di profond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multane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- lo spettatore spazia lo sguardo su più elementi scen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86600" y="2514600"/>
            <a:ext cx="485640" cy="762120"/>
          </a:xfrm>
          <a:prstGeom prst="downArrow">
            <a:avLst>
              <a:gd name="adj1" fmla="val 50000"/>
              <a:gd name="adj2" fmla="val 3923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61080" y="3241800"/>
            <a:ext cx="3825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E’ antireali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rifiuta le rogole cronologiche e percet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definisce disagio nello spettatore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(s-paesamen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Anni Sessanta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(Fellini, Antonioni et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B5A9-BA59-48EF-96E1-3BD67F9DFE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LE FUNZIONI DEL MONTAGG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0" y="2166840"/>
          <a:ext cx="9144000" cy="41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66840"/>
                    <a:ext cx="9144000" cy="41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ADD5-2275-48C8-9A3F-37E6BF7857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LA SCENA: è il risultato di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27160" y="1870200"/>
            <a:ext cx="733104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66"/>
                </a:solidFill>
                <a:latin typeface="Times New Roman"/>
              </a:rPr>
              <a:t>Il Profilmico: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scelte funzionali all e riprese definite prima e al di fuori di es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x: musica, oggettistica, tagli, inquad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24880" y="4003560"/>
            <a:ext cx="5900400" cy="825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ff"/>
                </a:solidFill>
                <a:latin typeface="Times New Roman"/>
              </a:rPr>
              <a:t>Il Filmico: ciò che riguarda il solo movim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ff"/>
                </a:solidFill>
                <a:latin typeface="Times New Roman"/>
              </a:rPr>
              <a:t>della  m.d.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91120" y="3200400"/>
            <a:ext cx="838080" cy="685800"/>
          </a:xfrm>
          <a:custGeom>
            <a:avLst/>
            <a:gdLst>
              <a:gd name="textAreaLeft" fmla="*/ 0 w 838080"/>
              <a:gd name="textAreaRight" fmla="*/ 83844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8D29-DF75-4EE1-BE87-4C65BC03206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IL PAESAGG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905120"/>
            <a:ext cx="350532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Può avere una fun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3581280"/>
            <a:ext cx="2438640" cy="1981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ecor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escrit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atu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fo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3505320"/>
            <a:ext cx="2514600" cy="2133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rammatur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uolo at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otagon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10080" y="3886200"/>
            <a:ext cx="3733920" cy="1828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odut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alenza psicolog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etafo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ision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offoc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904760" y="2438280"/>
            <a:ext cx="1600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05320" y="24382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05320" y="2362320"/>
            <a:ext cx="37335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BEC6-9203-4A51-B9A7-DE55EBD13D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Immagine è rimando a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7680" y="2174760"/>
            <a:ext cx="8169120" cy="825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mmagine come presenza che rimanda a un’assenza: l’affascinazione di Rilke ( </a:t>
            </a:r>
            <a:r>
              <a:rPr b="0" lang="it-IT" sz="2400" spc="-1" strike="noStrike">
                <a:solidFill>
                  <a:srgbClr val="cc00ff"/>
                </a:solidFill>
                <a:latin typeface="Times New Roman"/>
              </a:rPr>
              <a:t>V Elegia duines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45600" y="3290760"/>
            <a:ext cx="6477840" cy="1008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o schermo cinematografico come specchio delle apparenz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o sfondamento dell’apparenza come matrice della filosofia 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necessità della fruizione del  cinema (oltre la narrazio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9960" y="4648320"/>
            <a:ext cx="7635960" cy="119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e madri del cinema sono infatti </a:t>
            </a:r>
            <a:r>
              <a:rPr b="0" lang="it-IT" sz="2400" spc="-1" strike="noStrike">
                <a:solidFill>
                  <a:srgbClr val="ff0066"/>
                </a:solidFill>
                <a:latin typeface="Times New Roman"/>
              </a:rPr>
              <a:t>la sci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it-IT" sz="2400" spc="-1" strike="noStrike">
                <a:solidFill>
                  <a:srgbClr val="ff0066"/>
                </a:solidFill>
                <a:latin typeface="Times New Roman"/>
              </a:rPr>
              <a:t>la ma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Bergman, </a:t>
            </a:r>
            <a:r>
              <a:rPr b="0" lang="it-IT" sz="2400" spc="-1" strike="noStrike">
                <a:solidFill>
                  <a:srgbClr val="cc00ff"/>
                </a:solidFill>
                <a:latin typeface="Times New Roman"/>
              </a:rPr>
              <a:t>La lanterna magic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Winnicot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7086600" y="5029200"/>
            <a:ext cx="762120" cy="457200"/>
          </a:xfrm>
          <a:custGeom>
            <a:avLst/>
            <a:gdLst>
              <a:gd name="textAreaLeft" fmla="*/ 114120 w 762120"/>
              <a:gd name="textAreaRight" fmla="*/ 648000 w 7621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0594" y="5400"/>
                </a:lnTo>
                <a:lnTo>
                  <a:pt x="5400" y="5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0594" y="16200"/>
                </a:lnTo>
                <a:lnTo>
                  <a:pt x="30594" y="5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94" y="16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94" h="21600">
                <a:moveTo>
                  <a:pt x="13972" y="6775"/>
                </a:moveTo>
                <a:lnTo>
                  <a:pt x="22022" y="10800"/>
                </a:lnTo>
                <a:lnTo>
                  <a:pt x="13972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" action="ppaction://hlinksldjump"/>
          </p:cNvPr>
          <p:cNvSpPr/>
          <p:nvPr/>
        </p:nvSpPr>
        <p:spPr>
          <a:xfrm>
            <a:off x="3809880" y="51055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D5E0-060C-4619-A64F-D2993A38A8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Scienza e magia del cin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8534520" cy="825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me la filosofia,  il cinema è scienza (logos), ma anche tecnica,industria /e narrazione, magia, evento magi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3276720"/>
            <a:ext cx="2606760" cy="265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CI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a Leonardo: studi sulla vis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persistenza retinica e il m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52680" y="3276720"/>
            <a:ext cx="5791320" cy="3264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ombre/real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mito della caverna plato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nterna ma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acralit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mito/fiaba (squarciare le tenebre - meraviglia e timore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 Bergman, </a:t>
            </a:r>
            <a:r>
              <a:rPr b="0" lang="it-IT" sz="2000" spc="-1" strike="noStrike">
                <a:solidFill>
                  <a:srgbClr val="cc00ff"/>
                </a:solidFill>
                <a:latin typeface="Times New Roman"/>
              </a:rPr>
              <a:t>Il settimo sigillo - Stand by me -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0" lang="it-IT" sz="2000" spc="-1" strike="noStrike">
                <a:solidFill>
                  <a:srgbClr val="cc00ff"/>
                </a:solidFill>
                <a:latin typeface="Times New Roman"/>
              </a:rPr>
              <a:t>western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 il bivacco; parole=fiat lu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" action="ppaction://hlinkshowjump?jump=previousslide"/>
          </p:cNvPr>
          <p:cNvSpPr/>
          <p:nvPr/>
        </p:nvSpPr>
        <p:spPr>
          <a:xfrm>
            <a:off x="1676520" y="5867280"/>
            <a:ext cx="1042920" cy="381240"/>
          </a:xfrm>
          <a:custGeom>
            <a:avLst/>
            <a:gdLst>
              <a:gd name="textAreaLeft" fmla="*/ 24480 w 1042920"/>
              <a:gd name="textAreaRight" fmla="*/ 1018440 w 10429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9054" h="21600">
                <a:moveTo>
                  <a:pt x="0" y="0"/>
                </a:moveTo>
                <a:lnTo>
                  <a:pt x="59054" y="0"/>
                </a:lnTo>
                <a:lnTo>
                  <a:pt x="59054" y="21600"/>
                </a:lnTo>
                <a:lnTo>
                  <a:pt x="0" y="21600"/>
                </a:lnTo>
                <a:close/>
              </a:path>
              <a:path fill="lightenLess" w="59054" h="21600">
                <a:moveTo>
                  <a:pt x="0" y="0"/>
                </a:moveTo>
                <a:lnTo>
                  <a:pt x="59054" y="0"/>
                </a:lnTo>
                <a:lnTo>
                  <a:pt x="57654" y="1400"/>
                </a:lnTo>
                <a:lnTo>
                  <a:pt x="1400" y="1400"/>
                </a:lnTo>
                <a:close/>
              </a:path>
              <a:path fill="darken" w="59054" h="21600">
                <a:moveTo>
                  <a:pt x="59054" y="0"/>
                </a:moveTo>
                <a:lnTo>
                  <a:pt x="59054" y="21600"/>
                </a:lnTo>
                <a:lnTo>
                  <a:pt x="57654" y="20200"/>
                </a:lnTo>
                <a:lnTo>
                  <a:pt x="57654" y="1400"/>
                </a:lnTo>
                <a:close/>
              </a:path>
              <a:path fill="darkenLess" w="59054" h="21600">
                <a:moveTo>
                  <a:pt x="59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654" y="20200"/>
                </a:lnTo>
                <a:close/>
              </a:path>
              <a:path fill="lighten" w="59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054" h="21600">
                <a:moveTo>
                  <a:pt x="22520" y="10800"/>
                </a:moveTo>
                <a:lnTo>
                  <a:pt x="36533" y="3794"/>
                </a:lnTo>
                <a:lnTo>
                  <a:pt x="3653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2B46-2DC2-4D54-92F0-5C1E47FE8F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Filosofie del cinema: il real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Realismo rigido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F.lli Lumière e macchina fissa)= MIME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Riproduzione fedele ma esteri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Realismo raffinato (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azin, Trouffaut)=METES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on riproduco ma rappresento: necessità di un’ermeneutica come metodo di approc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E020-B503-4CCC-9A6F-87E17762A9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Filosofie del cinema - oltre il real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Filosofia dell’immagin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3809880" cy="449568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Filosofia del linguaggio/pragmatica della comunic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2971800"/>
            <a:ext cx="457200" cy="990720"/>
          </a:xfrm>
          <a:prstGeom prst="downArrow">
            <a:avLst>
              <a:gd name="adj1" fmla="val 50000"/>
              <a:gd name="adj2" fmla="val 541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2200" y="335268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50840" y="4114800"/>
            <a:ext cx="283536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Onirico-inf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3886200"/>
            <a:ext cx="3504960" cy="19227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66"/>
                </a:solidFill>
                <a:latin typeface="Times New Roman"/>
              </a:rPr>
              <a:t>Strutturalismo/semiologia: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0066"/>
                </a:solidFill>
                <a:latin typeface="Times New Roman"/>
              </a:rPr>
              <a:t>process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producono s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cinema event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ruolo dello spetta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F935-6AF0-498E-A32F-4D17E324C2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I CODI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ff"/>
                </a:solidFill>
                <a:latin typeface="Times New Roman"/>
              </a:rPr>
              <a:t>Codice percettivo-figurativo = composizione dell’inquadratura </a:t>
            </a:r>
            <a:r>
              <a:rPr b="0" lang="it-IT" sz="2000" spc="-1" strike="noStrike">
                <a:solidFill>
                  <a:srgbClr val="ff0066"/>
                </a:solidFill>
                <a:latin typeface="Times New Roman"/>
              </a:rPr>
              <a:t>- gramma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gradFill rotWithShape="0">
            <a:gsLst>
              <a:gs pos="0">
                <a:srgbClr val="754675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dice linguistico-sono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74880" y="3622680"/>
            <a:ext cx="3292200" cy="119124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00"/>
                </a:solidFill>
                <a:latin typeface="Times New Roman"/>
              </a:rPr>
              <a:t>Codice del montaggio= rapporto fra inquadrature </a:t>
            </a:r>
            <a:r>
              <a:rPr b="0" lang="it-IT" sz="2400" spc="-1" strike="noStrike">
                <a:solidFill>
                  <a:srgbClr val="ff0066"/>
                </a:solidFill>
                <a:latin typeface="Times New Roman"/>
              </a:rPr>
              <a:t>sintas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3429000"/>
            <a:ext cx="3200400" cy="138168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Codici narrativ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organizzazione/ordine del racco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2D48-FC66-437B-8875-163B9956E1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IL LINGUAGG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066680" y="1828800"/>
          <a:ext cx="748692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4869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7086600" y="3124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3" action="ppaction://hlinksldjump"/>
          </p:cNvPr>
          <p:cNvSpPr/>
          <p:nvPr/>
        </p:nvSpPr>
        <p:spPr>
          <a:xfrm flipV="1">
            <a:off x="7162920" y="449496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4" action="ppaction://hlinksldjump"/>
          </p:cNvPr>
          <p:cNvSpPr/>
          <p:nvPr/>
        </p:nvSpPr>
        <p:spPr>
          <a:xfrm>
            <a:off x="7772400" y="5181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5" action="ppaction://hlinksldjump"/>
          </p:cNvPr>
          <p:cNvSpPr/>
          <p:nvPr/>
        </p:nvSpPr>
        <p:spPr>
          <a:xfrm>
            <a:off x="8153280" y="57150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6" action="ppaction://hlinksldjump"/>
          </p:cNvPr>
          <p:cNvSpPr/>
          <p:nvPr/>
        </p:nvSpPr>
        <p:spPr>
          <a:xfrm>
            <a:off x="7543800" y="38862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9ADA-010B-4CC7-AE4A-CB5B6A3CF5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IL NARRAT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85800" y="1905120"/>
          <a:ext cx="792468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05120"/>
                    <a:ext cx="792468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7315200" y="7621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C6DE-423F-4565-B0C8-7F8C5AB926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315200" cy="1828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La finestra e lo specchio:</a:t>
            </a: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LO SPAZIO FILMICO</a:t>
            </a: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(NON SCHERMIC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3809880" cy="37335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80"/>
                </a:solidFill>
                <a:latin typeface="Times New Roman"/>
              </a:rPr>
              <a:t>Spazio chiu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80"/>
                </a:solidFill>
                <a:latin typeface="Times New Roman"/>
              </a:rPr>
              <a:t>CUL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7960" y="2361960"/>
            <a:ext cx="3809880" cy="3733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00"/>
                </a:solidFill>
                <a:latin typeface="Times New Roman"/>
              </a:rPr>
              <a:t>Spazio aper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00"/>
                </a:solidFill>
                <a:latin typeface="Times New Roman"/>
              </a:rPr>
              <a:t>NA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4343400"/>
            <a:ext cx="3200400" cy="100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33ff"/>
                </a:solidFill>
                <a:latin typeface="Times New Roman"/>
              </a:rPr>
              <a:t>Interni: prigionia, asfissia, ineluttabilità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33ff"/>
                </a:solidFill>
                <a:latin typeface="Times New Roman"/>
              </a:rPr>
              <a:t>malattia, ossession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3352680"/>
            <a:ext cx="457200" cy="990720"/>
          </a:xfrm>
          <a:prstGeom prst="downArrow">
            <a:avLst>
              <a:gd name="adj1" fmla="val 50000"/>
              <a:gd name="adj2" fmla="val 541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00800" y="3429000"/>
            <a:ext cx="457200" cy="914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89680" y="4613400"/>
            <a:ext cx="306360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terni, libertà, leggerezza, evoluzione, novum, lieto fine (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6705720" y="6248520"/>
            <a:ext cx="533160" cy="30456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53560" y="6060960"/>
            <a:ext cx="20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ECCEZIONI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457200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31F7-8941-4A83-B431-AF5B802285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1T13:19:40Z</dcterms:created>
  <dc:creator>Bora</dc:creator>
  <dc:description/>
  <dc:language>en-US</dc:language>
  <cp:lastModifiedBy>CRISTINA</cp:lastModifiedBy>
  <cp:lastPrinted>2001-11-04T14:01:53Z</cp:lastPrinted>
  <dcterms:modified xsi:type="dcterms:W3CDTF">2001-11-04T14:13:43Z</dcterms:modified>
  <cp:revision>51</cp:revision>
  <dc:subject/>
  <dc:title>IL MONTAGGIO</dc:title>
</cp:coreProperties>
</file>